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847-A4FB-4D2E-9FA9-4F012966B6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se of TCP/IP enables a LAN to easily support web servers.  This means that that the development of websites on a network is ea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95E8-0D3F-4A7B-B268-B0B80607A7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286D-D62A-4C65-BBED-ECCAD30C9C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first Ethernet network was designed and tested in 1973 at Xerox Corporation’s Palo Alto Research Centre by Bob Metcal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 ‘node’ is any device attached to a network that is capable of requesting and sending packets (e.g. Usually a PC, network prin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thernet was originally designed to operate on a LAN, usually within a single building. Ethernet networks originally could only be a few hundred metres long, making them incapable of connecting widely separated buildings. Advancements over time have allowed Ethernet networks to expand their range considerab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thernet does not use a central computer to control when data can be sent.  A node must listen to a network to make sure is sending a frame.  If two or more computers judge that a network is quiet and each proceed with sending data, a collision occurs.  To make sure that a collision does not happen again the network waits a random amount of time before the node checks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ames are sent by the sending device and receipted back to the sender from the receiver.  All frames being sent contain the destination node and sending node addre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arity is where the data (in binary code data is represented by 1s and 0s) in the packet are added together as if they wer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1A4F-8F54-46DC-B2F6-4B0B2C1D7A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acket switching is the term used to describe the process of breaking a message into several small packets, sending the packets along the b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vailable route (individual packets may travel different routes) and then reassembling the data at the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B083-05EA-4432-AB79-EBBEE9C707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D9F-C1B2-43EB-9A25-A615F164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30A-2E28-4517-9826-9956161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C2C-6BA5-4B65-8C43-FB9886A7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A91-A81F-4C94-BB25-2CB1E33C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313-423C-41B5-ADDC-10F1B0B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CDE-E9AD-468E-95BA-4C46749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9A4-09CD-4336-89A4-3C4D242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609-6EEC-4BCB-867D-C0EC38C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E0A-AD7E-4B66-8354-44A378A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470-E3E4-44E8-B322-BA23713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548-1746-4693-B93E-34D166F4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C8A-4AB1-4CD1-89C3-6BFD8C6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8501-26CE-4C8B-BEFE-3FF14E18B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TR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R 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61C-8850-432E-AAD4-EBDC5A0665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IP (Internet Protocol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ce a file has been chopped into packets, the IP delivers each packet to its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ach packet can take a different route from A to B, bouncing from router to router getting more precise with each h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oute is dynamically chosen for each packet, based on internet conditions at that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tocols – TCP/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802.11 Wireless Standard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(WI-F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802.11 standard defines how two computers or devices can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municate using radio w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network that uses this known as a 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I-FI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network.  Wi-Fi is known as wireless fide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i-Fi Networks allow computers up to 50 metres apart to connect without the need for wi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648320" y="1614600"/>
            <a:ext cx="4038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802.11 Wireless Standard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(WI-F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mputers fitted with a Wi-Fi network card can split the available radio bandwidth which allows a number of computers using these cards to talk at the same time with interfering each 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802.11 standard uses techniques that are similar to the Ethernet standard to control data flow. For this reason, a Wi-Fi network can be easily connected to a wired Ethernet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038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Network communication standards</a:t>
            </a: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Questions 22, 24, 26, 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2.Why do manufacturers build products based on network stand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4. Identify the four components of all ethernet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6. How does a collision occur on a network? How does ethernet avoid repeated collisions of the same transmissio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7.  TCP/IP uses smaller packets than other protocols. Why is this an advantage on the Intern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intranet is an internal, secured environment that has a similar look and feel to the Internet, but operates as a local area netwo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intranet provides easy and fast access to information by employees in a familiar environment while keeping the information secure from the general publ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NEFITS OF INTR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se include 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ccess to information in a controlled man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munication within the organ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ssages that log hardware and software problems with technical support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tacts of who to approach for various problems or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raining through the publication of online user guides and computer-based training pro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HAT INFORMATION, DOCUMENTS AND RESOURCES ARE ON THE SCHOOL INTRANE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NETWORK COMMUNICATION 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These have protocols that are an agreed sets of rules and procedures for computers to exchange informa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These protocols are like humans agreeing to speak the same language during a conversa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two computers to exchange data, they must be using the same protoco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Network standards have been established to overcome the problems of incompatibility on a network and to ensure that hardware and software components can be integrated into any network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WE COME UP WITH DIFFERENT HUMAN PROTOCOLS THAT WE USE EVERY D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otocol determ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type of error checking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ata compression method, if one is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the sending device will indicate that it has finished sending a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the receiving device will indicate that it has received a mess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ETH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thernet is a network standard that describes communication over a single cable shared by all devices on the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y devices connected to this single cable can communicate with each other.  This gives the ability for the network to expand if more devices needed to be ad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thernet communicates between nodes in short messages called frame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rames also contain parity information, to check if the frame has arrived correct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TWORK PROTOC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is a standard protocol for each network communication task,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send data over the Internet (TCP/IP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send and receive email (POP, IM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request and deliver web pages (HTT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request and deliver files (FT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4D4F-0284-4557-8006-FEF75346D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71B0-99F9-4E00-A53F-7EE65C334B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protocol is the most common method of putting data together for sending and receiving over networ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the universal protocol for internet communications.  It is defined as how data is moved from one part of a network to an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de up of 2 complementary protocol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TCP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Transport Control Protoco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</a:t>
            </a:r>
            <a:r>
              <a:rPr b="1" lang="en-A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IP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nternet Protoc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91835DIKH_w"/>
          <p:cNvPicPr/>
          <p:nvPr/>
        </p:nvPicPr>
        <p:blipFill>
          <a:blip r:embed="rId1"/>
          <a:stretch/>
        </p:blipFill>
        <p:spPr>
          <a:xfrm>
            <a:off x="4932360" y="1655640"/>
            <a:ext cx="3602160" cy="4581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CP /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40384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TCP (Transport Communication Protoc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s files into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ets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be sent across the internet or a network.  Each packet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ddress of the s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stination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chunk of data (e.g. 1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2EE8-A7C5-4C4C-80BB-8BF231039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91871BgJF_w"/>
          <p:cNvPicPr/>
          <p:nvPr/>
        </p:nvPicPr>
        <p:blipFill>
          <a:blip r:embed="rId1"/>
          <a:stretch/>
        </p:blipFill>
        <p:spPr>
          <a:xfrm>
            <a:off x="4932360" y="1825560"/>
            <a:ext cx="3511440" cy="4124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tocols – T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8:05:32Z</dcterms:created>
  <dc:creator>Education</dc:creator>
  <dc:description/>
  <dc:language>en-US</dc:language>
  <cp:lastModifiedBy>Education</cp:lastModifiedBy>
  <dcterms:modified xsi:type="dcterms:W3CDTF">2011-02-13T21:19:44Z</dcterms:modified>
  <cp:revision>20</cp:revision>
  <dc:subject/>
  <dc:title>INTRANETS</dc:title>
</cp:coreProperties>
</file>